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3AB-B978-4A5D-AD48-78C4D514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22B-D74C-4907-9157-22634CB6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2F6-0211-494F-B9CC-B0F4F852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EED-3D5B-4F62-A3FB-AD45B93D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F206-9530-4977-8A7A-D07C1002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0E31-7556-4562-88F8-5B607E13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6E65-1FF5-4616-AD2A-EF8F7DD7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EF75-5E4A-41C0-945C-3CA8F1ED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0B9F-6692-4691-A432-95D198C5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303C-2D00-4DA3-A7B0-4389E743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CFC3-7787-4A07-B13D-1B8699EF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C3E-ECE8-4317-B661-90AD975B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9319-EE2A-4DA0-9296-A24CFCF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52E6-1912-471A-9F19-D786B98A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25C9-9153-4A84-9BFD-8F0C10F5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BF6C-662F-436F-A369-544FEFC9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83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60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83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60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067C-15B9-4B38-ACB6-BB02AFBA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EE1-A2B9-44E3-8314-3B0653E5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63A-0865-47A6-90D2-10D11924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AA9-4C10-43F9-98BE-3C10691A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762120"/>
            <a:ext cx="693432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C5D-D7CA-4BF4-9381-2DE7F3CC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FC9-A770-4B9A-A460-91AC7225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01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807-1FC3-4F95-87A4-0FE46996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01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8B5-59B1-43DB-9F0D-D0621E22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F191-9A61-4C08-8A5B-85BAC65DFFF4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E285-A68E-487E-A28C-6B073BF18D45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perties of Real Numbe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d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Distributiv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iv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(b + c) = ab + a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Reflexiv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flexiv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=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Symmetric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ymmetric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= b, then b = 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Transitive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itiv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= b and b = c, then a = 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Commutative 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mutativ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+ b = b +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648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b)=b(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Associative 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ssociativ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+(b+c) = (a+b)+c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648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bc)=(ab)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Identity 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dentity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+ 0 = 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48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1)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Inverse Property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69343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verse Proper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+(-a) = 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480" y="1981080"/>
            <a:ext cx="354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(1/a) =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5:38:08Z</dcterms:created>
  <dc:creator>Parkland High School</dc:creator>
  <dc:description/>
  <dc:language>en-US</dc:language>
  <cp:lastModifiedBy>test</cp:lastModifiedBy>
  <dcterms:modified xsi:type="dcterms:W3CDTF">2014-09-08T11:41:13Z</dcterms:modified>
  <cp:revision>3</cp:revision>
  <dc:subject/>
  <dc:title>Properties of Real Numbers</dc:title>
</cp:coreProperties>
</file>